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6800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1036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52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94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37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37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37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0804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5264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9688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94148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38608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38608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38608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252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401040" indent="-3254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4440" indent="-325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987840" indent="-3254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281240" indent="-3254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574640" indent="-325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574640" indent="-325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574640" indent="-325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6800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1036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52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94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37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37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37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62388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2852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3280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3744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4208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4208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4208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5965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98316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3698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7564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1434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1434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1434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343680" y="3036600"/>
            <a:ext cx="63648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Gill Sans"/>
                <a:ea typeface="Gill Sans"/>
              </a:rPr>
              <a:t>Aula 11</a:t>
            </a:r>
            <a:endParaRPr b="0" lang="en-US" sz="1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55480" y="2146320"/>
            <a:ext cx="12671640" cy="79246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742000" y="1359000"/>
            <a:ext cx="1402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-mai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30040"/>
            <a:ext cx="10464840" cy="24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m dupla, crie um convite para uma reunião via e-mail. Considere: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2714400"/>
            <a:ext cx="10464840" cy="648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ssunto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onvidado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Objetivo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ata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Horário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7064280" y="4727520"/>
            <a:ext cx="5702400" cy="42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413080" y="2832120"/>
            <a:ext cx="97916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xpressões do mundo dos esportes usadas no dia-a-adia e nas empresas.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Gill Sans"/>
                <a:ea typeface="Gill Sans"/>
              </a:rPr>
              <a:t>No Brasil chamamos de “Futebolês”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-228600" y="1371600"/>
            <a:ext cx="13030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ill Sans"/>
                <a:ea typeface="Gill Sans"/>
              </a:rPr>
              <a:t>Lição de Casa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Unidades 46-48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Significado das expressões do “Futebolês”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Redação: “O que você fez no fim de semana?”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955880" y="3174840"/>
            <a:ext cx="96901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omo conquistar um cliente brasileiro?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36572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erguntas?</a:t>
            </a:r>
            <a:br>
              <a:rPr sz="8400"/>
            </a:b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enham uma boa noite!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9720" y="250920"/>
            <a:ext cx="10464840" cy="244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ronomes Possessivo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1839960" y="2432160"/>
            <a:ext cx="936144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sa-se para indicar posse ou pertencimento (ownership, possession and belonging). Apresenta o </a:t>
            </a:r>
            <a:r>
              <a:rPr b="0" lang="en-US" sz="4200" spc="-1" strike="noStrike">
                <a:solidFill>
                  <a:srgbClr val="0044fe"/>
                </a:solidFill>
                <a:latin typeface="Gill Sans"/>
                <a:ea typeface="Gill Sans"/>
              </a:rPr>
              <a:t>possuidor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e a coisa </a:t>
            </a:r>
            <a:r>
              <a:rPr b="0" lang="en-US" sz="4200" spc="-1" strike="noStrike">
                <a:solidFill>
                  <a:srgbClr val="d90b00"/>
                </a:solidFill>
                <a:latin typeface="Gill Sans"/>
                <a:ea typeface="Gill Sans"/>
              </a:rPr>
              <a:t>possuída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-125280" y="5632560"/>
            <a:ext cx="130284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A gerente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 convocou todos seus </a:t>
            </a:r>
            <a:r>
              <a:rPr b="0" lang="en-US" sz="3600" spc="-1" strike="noStrike">
                <a:solidFill>
                  <a:srgbClr val="d90b00"/>
                </a:solidFill>
                <a:latin typeface="Gill Sans"/>
                <a:ea typeface="Gill Sans"/>
              </a:rPr>
              <a:t>funcionários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 para uma reunião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A gerente 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convocou a equipe dela para uma reunião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Você 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precisar entregar seu relatório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Meu </a:t>
            </a:r>
            <a:r>
              <a:rPr b="0" lang="en-US" sz="3600" spc="-1" strike="noStrike">
                <a:solidFill>
                  <a:srgbClr val="d90b00"/>
                </a:solidFill>
                <a:latin typeface="Gill Sans"/>
                <a:ea typeface="Gill Sans"/>
              </a:rPr>
              <a:t>relatório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 está pronto!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647640" y="469800"/>
            <a:ext cx="1236996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resente, Passado ou Futuro?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647640" y="2400480"/>
            <a:ext cx="1236996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diretor de T.I. está em reunião com o diretor financeiro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gerente de RH entrevistou 50 candidatos para a vaga de analista de crédito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cretária vai agendar uma reunião geral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11912760" cy="41655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2851200" y="330120"/>
            <a:ext cx="7318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reposição de Lugar - Unidade 46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1219320" y="1231920"/>
            <a:ext cx="10578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de está o círculo preto em relação ao cubo branco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3834720" y="6985080"/>
            <a:ext cx="6178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círculo está... do cubo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520560" y="1955880"/>
            <a:ext cx="391176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o computad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o telefo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o fichá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ane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ost i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alendá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grampead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opo de águ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xícara de café ou chá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lantinh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genda telefônic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ader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ocument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elula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099040" y="2532240"/>
            <a:ext cx="6648480" cy="49780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2362320" y="7988400"/>
            <a:ext cx="121410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O que você tem na sua mesa de escritório que não tem nesta mesa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ua estação de trabalho é organizada ou bagunçada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Você tem muitos ou poucos objeto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2887560" y="812880"/>
            <a:ext cx="9229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de está... nesta mesa de escritório?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824040" y="673200"/>
            <a:ext cx="1055376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Leitura: Em Primeiro Lugar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refa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eva os números por extenso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írcule as preposições 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943280" y="2044800"/>
            <a:ext cx="858492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preparar um convite para uma reunião?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736560" y="673200"/>
            <a:ext cx="6045120" cy="84074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7188120" y="3029040"/>
            <a:ext cx="867420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sunto) </a:t>
            </a:r>
            <a:r>
              <a:rPr b="0" lang="en-US" sz="2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O q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i ser discutido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sunto)</a:t>
            </a:r>
            <a:r>
              <a:rPr b="0" lang="en-US" sz="2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 Q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 a pauta da reunião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essoa) </a:t>
            </a:r>
            <a:r>
              <a:rPr b="0" lang="en-US" sz="2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Quem</a:t>
            </a:r>
            <a:r>
              <a:rPr b="0" lang="en-US" sz="2400" spc="-1" strike="noStrike">
                <a:solidFill>
                  <a:srgbClr val="2e6ffd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i participar (público-alvo)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dade) </a:t>
            </a:r>
            <a:r>
              <a:rPr b="0" lang="en-US" sz="2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Quan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ssoas vão participar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dade) </a:t>
            </a:r>
            <a:r>
              <a:rPr b="0" lang="en-US" sz="2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Quantos</a:t>
            </a:r>
            <a:r>
              <a:rPr b="0" lang="en-US" sz="2400" spc="-1" strike="noStrike">
                <a:solidFill>
                  <a:srgbClr val="2e6ffd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a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cal) </a:t>
            </a:r>
            <a:r>
              <a:rPr b="0" lang="en-US" sz="2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On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reunião vai ser realizada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mpo) </a:t>
            </a:r>
            <a:r>
              <a:rPr b="0" lang="en-US" sz="2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Quando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eral)</a:t>
            </a:r>
            <a:r>
              <a:rPr b="0" lang="en-US" sz="2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 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ra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tivo) </a:t>
            </a:r>
            <a:r>
              <a:rPr b="0" lang="en-US" sz="2400" spc="-1" strike="noStrike">
                <a:solidFill>
                  <a:srgbClr val="0044fe"/>
                </a:solidFill>
                <a:latin typeface="Times New Roman"/>
                <a:ea typeface="Times New Roman"/>
              </a:rPr>
              <a:t>Por 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ocê está convocando uma reunião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8011800" y="1803240"/>
            <a:ext cx="3647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qu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7493040" y="7162920"/>
            <a:ext cx="5524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s palavras em azul são pronomes interrogativos usados para formular pergunta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2209680" y="2039760"/>
            <a:ext cx="8674200" cy="614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